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80B-5F27-45F9-9828-126A20D2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219-73CB-4945-ADCB-D2B85509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30085-48C4-402B-BB6A-BBA746D1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859C5-6F49-4AD2-96D4-0F1211F3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F1741-3BEB-4BF9-A7BF-525E2E0B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41276-E2D2-40B5-BAE3-609272F3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AB5C2-95AB-4298-84AD-4DEF9184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EE81E-2947-4195-83F4-1FB1A0F4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D762B-7EF5-4CF7-A286-34D5E39C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BE473-0E1C-4895-B5A5-8EE90FB7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A4FBB-C32C-46FF-925F-6B6E688E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7A01A-C491-48E5-9BDC-CE621E66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83D-59DE-4F75-8E28-738C0504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6264A-9F60-4CEA-A722-0BFD2A25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A2417-DE6E-4FB4-9966-E63C3651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62E1B-61D5-4948-8577-4AFFF0DA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D07D3-88F8-4251-90D5-76DB2399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A9D53-5E53-40BA-BDFD-2F603053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1BF92-F37F-4269-AA3E-9301E9C2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5C3FC-4415-419A-A91A-4FCC45EF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685F5-7797-425E-BD4B-38736CBB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AA9D1-ADAA-4DEE-8DF7-B038A94D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54534-965C-494A-AFE7-E02FA07F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E0A-225D-4C6B-AC95-9D449006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FB9E8-1E41-4193-8DA9-EB571E8E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665A0-B252-4AE8-B80A-E81F0A23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F3B6D-49B8-4702-A638-A128E81E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110DB-4D19-456E-9401-4AED6C27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8B719-291A-4689-9141-4A8E51F8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55D66-851A-466D-999E-BCED06E8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67F01-EA3C-433D-990B-B936011F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C06F6-29B4-46F3-ADB2-C82752BD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45A60-F0BF-4D20-AC24-0BDFB82E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D7239-CFD4-4F4B-9DEB-08232574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0C43-06FD-4196-B48C-851F40AC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A56FF-FD5C-45F0-8A75-837912F4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CF972-EBCB-4D1C-B565-3FCAEFE1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34D40-BC55-4352-90F5-835CEDD6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2AE4E-CF35-4E2C-8B81-2F1FF004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005B5-9E66-42BD-BDBB-2B747B51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B024C-6F45-4405-B6BF-8D665E97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99D87-FC22-4A5D-A0AF-6875408E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EE430-01E7-4D99-B941-3927728C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CC75D-939D-432F-827A-3C16BAA3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D3D10-796D-4590-8B5C-7E56ED69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F34C-0F30-4D72-B571-34494BCF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67527-61E6-4F16-998E-A47AB269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41F5E-E01A-4530-871B-38CC26FD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E19A1-485C-410E-8D4B-2E900EF4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1A6B0-DD61-4519-BE03-177072D2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88FCC-8092-46A6-9B14-E9ADA175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39C5-1E45-4262-967F-E1D2C080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2754-61EF-499A-BE07-636941C6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C021-8217-47B0-A5ED-3F34AFC5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039E-96D8-41DB-A08D-9FCCFC5E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EAE7-77D6-4669-9302-9CAEF317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B21-B991-4B12-80D3-00CBCAA8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FAB7-EDF0-4951-B898-A9D3BEF3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6890-F1A1-4889-A4F1-0E7E9D71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FF36-4125-4008-82F5-B057FD8B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2354-F90A-4E84-8499-BB563DDD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6C45-07BB-4938-BE63-8EC3F1B8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4AFDD-F36E-4539-B5F3-6FED8866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2697-468C-4124-9603-852518D6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37531-E8C8-45B2-91C9-D8418B7B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C1A0-C083-443C-9E91-B6825CFC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B821A-47F8-4CDD-9E1E-EA7ACFAC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AB7-5923-4258-8058-F6DD3532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6C247-6626-47C5-9202-F214B080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13AA2-C4A1-41ED-A152-F5E5FABE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C9AA4-1DEE-49F2-AA0C-0B0F1F0A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D65F-E5A7-4D22-A5A8-9FABBD11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31B77-B1B3-4539-863D-02AC016D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77A8B-FEC8-4F86-83C1-096E2521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43EF-7EE8-44B3-B076-B871AA75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C6B1F-26DD-4EE2-BB2E-D4C3D08F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03FD2-3185-4125-AD17-F5C26E93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D0A32-CF86-43E3-89B7-E21AD9A5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FD5-C5FC-4887-98CD-AF9B3310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11479-591D-43AA-8269-037510B6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953DA-5A5E-40DE-A141-FA76BF90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E439D-3E41-4A94-B96A-7F10D71E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B47C5-F907-4A35-A844-D4A7E520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C7B62-7550-4850-A0CD-8D926052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C587C-D300-4469-B7FF-B461BC1D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B68D8-9304-49DB-8FAA-80C8C2F1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7E7CB-F176-41F8-B884-308CBB8D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02676-0373-4FEF-AB0B-CE9FD0D1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60326-3101-4F92-8810-17C1A76C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3D3-404E-4E8D-BF18-8C81A6F9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20E8B-FA50-468A-B928-F2CFFAC4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68511-B34D-4ADF-BEB5-C8C3BF00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4A7A9-FDF9-4FF6-B7E9-B07AD0A8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F135D-34BD-47C8-80D8-2F9AAE70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B358B-686C-4741-B984-067DB778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A038D-8F21-4FB8-AB80-2D30D91B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866CB-C4B4-43EA-8F8E-23C3FCB8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2FB01-691A-45A2-A144-A7FA3FB1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D14AC-2FB5-4206-B1BD-41595CAA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FF0BF-807C-42B8-82E4-0AA799E9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37A-8DB7-45FC-A7AA-D687C21A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A0168-D231-4E5D-B98E-7D05F74F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B98F3-47D1-44FA-B464-720DFCE1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D8419-F490-4B36-975E-CE76F20D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3A0AB-0968-4AD3-81AB-A31662A3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2B6D6-6CEC-48E2-86B9-90E6270B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FDC5B-41FE-4852-B233-679AC5C2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4B9E0-E76C-4A57-9E1E-0FE748A2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183E6-510F-4329-A1AC-C5C8398F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84A62-639E-45C7-A813-84F81DE0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0D527-60EE-450F-A667-01719AAA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B904-AFF6-4D61-88C9-AEC38B6D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0D4EA-8669-4B58-81A2-733C2124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D78B8-A6A9-4D68-A87C-E00F5831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31CBA-ACA7-44FD-8CC9-D21137D0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2603E-D7B4-4F24-85A7-63995946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74D4B-AC56-4A2C-AE38-22328C82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07086-3EEB-4EA1-A42C-6E1D8197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F8C60-5C4C-4425-A92B-257415D4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B5727-BF64-46F7-84AF-39504B64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51DCB-017F-4042-B235-1A4921B0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5BEF1-CD1E-499C-9FE6-EFB73624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E3D-6E5E-4A2E-8A2D-E3C601CE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C5F86-0D1C-4C31-BA5B-4F7D48B4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F4D1C-C71D-4D4B-9E68-24AAF1D9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65B38-BCB9-4ED6-82DD-B398191A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3D9D9-A912-4DA9-A8A1-FE1F5B36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78CD2-1CBC-4ECC-8DE0-372F3356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46FE5-4E16-477E-8D36-1FC67D62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9DD3C-AEB0-4B22-8DE5-51FC5196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805CA-0F4C-4CF8-A3C1-5D3EB278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A28D2-377C-486B-96DE-DE3B45E2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17A4E-AAE5-4CB6-AB4C-9A92AD69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886-1B3C-4D2E-B2FD-0D78505D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8EFE9-C915-4ED7-A3D4-16A5B66D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BF6C8-6F8E-47F2-BC74-456085B5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F5CF3-ABEA-418E-9F41-86FF1C3E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50CD5-7F8E-4D74-B96F-92055C24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CD1CE-DDAB-4131-99C8-5F2AE9EC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4AEAC-8E2B-409F-86F3-5887CBF0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AF7D7-F293-468B-8564-7E892763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6E12B-39B1-46BA-B2E6-FA5E32D7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226D7-36F4-4FBB-877F-1FF991D5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6814F-F005-4F31-BFB0-2D412CAF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5B4E-2A6F-41F9-BE17-53E49426D9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5948-2E77-4B58-8C5F-24916B8D70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1B67-C8E2-43B9-97F8-0EAAD0CF2E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AF04-C78A-43CA-8A30-7D8295F1CA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61EF-03DB-4E00-ADAE-1EB23E5BDE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28D5-DA6F-4125-89CF-398750E2F2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89AE-1F19-4CBA-B23C-F15FBFFA22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FB74-E0A1-4A4D-ADA4-A9E79096B7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8BC5-B84B-47FA-B31C-7F7D42EF19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A903-8BD0-4D7F-BBEF-33CBBEA34A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8D4C-4C2E-45D0-8B94-B9005828F0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4496-7ACB-489A-A10D-7EF6A03A3C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ГИА 9</a:t>
            </a:r>
            <a:br>
              <a:rPr sz="5200"/>
            </a:br>
            <a:r>
              <a:rPr b="0" lang="en-US" sz="40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Обучение школьников написанию сжатого изложения (часть С1 ЭР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763640" y="3270240"/>
            <a:ext cx="6840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лаборатория русского языка и литературы МИО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407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(от греч. idea - идея, понятие, первообраз, представление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авная мысль, лежащая в основе текс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версия 2009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добиться успеха в жизни, необходимо развивать н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интеллектуальные, но и эмоциональ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через восприятие искус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Приемы определения главной информац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28400" y="1600200"/>
            <a:ext cx="86072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ой прие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пределение ключевых сл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микротемы и установление связей между ни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П ФИПИ «Определение в тексте так называем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вых маркёр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лов и выражений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ющих ключевые моменты содержания 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ющих главную информацию»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структурно-смысловых связей ключевых слов каждой микрот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факт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то? что? (где? когда?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цени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то об этом говорится? что во всем этом главное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Демоверсия  2009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357120" y="571680"/>
          <a:ext cx="4138560" cy="6242040"/>
        </p:xfrm>
        <a:graphic>
          <a:graphicData uri="http://schemas.openxmlformats.org/drawingml/2006/table">
            <a:tbl>
              <a:tblPr/>
              <a:tblGrid>
                <a:gridCol w="4138560"/>
              </a:tblGrid>
              <a:tr h="15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фактологии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 Что? (Где? Когда?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- успех в жизни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ллектуальные способност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качества человек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понимать окружающих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ствовать их настроение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ереживать и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же развить эту способность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е искусств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ый интеллек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4714920" y="488880"/>
          <a:ext cx="4038480" cy="6226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6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оценивания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об этом говорится? Что во всем этом главное?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ллектуальные способ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ют поддерживать гармоничные отношения с миром, а значит, добиться успеха в этом мир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е переживани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альное сочетание эмоциональных и интеллектуальных способностей нашей личн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2440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Ладыженская Т.А., Баранов М.Т. Русский язык. 5 класс </a:t>
            </a:r>
            <a:r>
              <a:rPr b="0" lang="ru-RU" sz="1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2009</a:t>
            </a:r>
            <a:r>
              <a:rPr b="0" lang="ru-RU" sz="1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Просвещение</a:t>
            </a:r>
            <a:br>
              <a:rPr sz="1800"/>
            </a:br>
            <a:r>
              <a:rPr b="1" lang="ru-RU" sz="1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Стр.44-45, Р</a:t>
            </a:r>
            <a:br>
              <a:rPr sz="1800"/>
            </a:br>
            <a:r>
              <a:rPr b="0" lang="ru-RU" sz="1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О чём говорится в тексте (какова его тема)? Что значит порядочный человек, по мнению Ю.Я.Яковлева? Найдите предложения, в которых автор выражает эту основную мысль.</a:t>
            </a:r>
            <a:br>
              <a:rPr sz="1800"/>
            </a:b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214200" y="1785600"/>
            <a:ext cx="84297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чный челове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лось ли тебе слышать, как взрослые о ком-то говорят: «Порядочный человек»? И задумывался ли ты над тем, что означает слово «порядочный»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, человек, который любит порядок, аккуратно одет, не разбрасывает по комнате свои вещи, вовремя приходит на работу или в школу?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корень этого слова «порядок». Но речь идёт не о простом порядке, а об устройстве самой жизни. Этот порядок – верность, честность, благородство, умение понять чужую беду и радоваться чужой удаче как собственной. Чем больше такого порядка будет вокруг нас, тем счастливее будут жить люд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чный. Постарайся скорее понять и запомнить это прекрасное русское слово. И живи так, чтобы люди говорили про тебя: «Это порядочный человек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00"/>
                </a:solidFill>
                <a:latin typeface="Garamond"/>
              </a:rPr>
              <a:t>Ладыженская Т.А., Баранов М.Т. Русский язык. 5 кл.</a:t>
            </a:r>
            <a:r>
              <a:rPr b="0" lang="ru-RU" sz="16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u-RU" sz="1600" spc="-1" strike="noStrike">
                <a:solidFill>
                  <a:srgbClr val="999900"/>
                </a:solidFill>
                <a:latin typeface="Garamond"/>
              </a:rPr>
              <a:t>2009</a:t>
            </a:r>
            <a:r>
              <a:rPr b="0" lang="ru-RU" sz="16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u-RU" sz="1600" spc="-1" strike="noStrike">
                <a:solidFill>
                  <a:srgbClr val="999900"/>
                </a:solidFill>
                <a:latin typeface="Garamond"/>
              </a:rPr>
              <a:t>Просвещение</a:t>
            </a:r>
            <a:br>
              <a:rPr sz="1600"/>
            </a:br>
            <a:r>
              <a:rPr b="1" lang="ru-RU" sz="1600" spc="-1" strike="noStrike">
                <a:solidFill>
                  <a:srgbClr val="999900"/>
                </a:solidFill>
                <a:latin typeface="Garamond"/>
              </a:rPr>
              <a:t>Стр.159 , Р</a:t>
            </a:r>
            <a:br>
              <a:rPr sz="1600"/>
            </a:br>
            <a:r>
              <a:rPr b="0" lang="ru-RU" sz="16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u-RU" sz="1600" spc="-1" strike="noStrike">
                <a:solidFill>
                  <a:srgbClr val="999900"/>
                </a:solidFill>
                <a:latin typeface="Garamond"/>
              </a:rPr>
              <a:t>Прочитайте текст. Что в нём утверждается? В какой части текста выражена его основная мысль (тезис)? Как автор убеждает читателя в своём мнении? О чём сообщается в выводе? С помощью каких слов он присоединяется к основной части текста? Как связаны между собой тезис и вывод?</a:t>
            </a:r>
            <a:br>
              <a:rPr sz="1600"/>
            </a:br>
            <a:endParaRPr b="0" lang="en-US" sz="1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ть строение слова  -  увлекательное занят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ём сло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ть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ервый взгляд оно кажется самым обычным. Но попробуем найти в нём корень. Подберём однокоренные слова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ть, обувать, переобуть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этих словах можно выделить как общий один-единственный звук  [у]. Что же это такое? Неужели корень? Да, такой в этом слове странный корень. Он состоит всего из одного звука. Вот и оказывается,  что по своему строению сло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ма интерес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тайн открывается тем, кто изучает строение сло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4200" y="277920"/>
            <a:ext cx="8715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99900"/>
                </a:solidFill>
                <a:latin typeface="Garamond"/>
              </a:rPr>
              <a:t> </a:t>
            </a:r>
            <a:r>
              <a:rPr b="0" lang="ru-RU" sz="20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Баранов М.Т., Ладыженская Т.А. Русский язык. 6 кл.</a:t>
            </a:r>
            <a:r>
              <a:rPr b="0" lang="ru-RU" sz="20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2005  Просвещение</a:t>
            </a:r>
            <a:r>
              <a:rPr b="0" lang="ru-RU" sz="20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Стр. 69, упражнение 163 </a:t>
            </a:r>
            <a:br>
              <a:rPr sz="2000"/>
            </a:b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важ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не может выбирать себе наружность. Но зато он имеет возможность выбрать более важную вещь – характер. Мы можем сделать себя такими, какими нам хочется быть. Очень важно быть настойчивым и упорным. Таким людям всё удаётся лучше, чем слабохарактерны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ства приучайте себя не отступать перед трудностями, доводить дело до конца, это войдёт в привычку, и, когда вырастете, у вас будет великолепное качество – настойчив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.А.Лавочкин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00"/>
                </a:solidFill>
                <a:latin typeface="Garamond"/>
              </a:rPr>
              <a:t>Баранов М.Т., Ладыженская Т.А. Русский язык. 6 кл.</a:t>
            </a:r>
            <a:r>
              <a:rPr b="0" lang="ru-RU" sz="2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999900"/>
                </a:solidFill>
                <a:latin typeface="Garamond"/>
              </a:rPr>
              <a:t>2005</a:t>
            </a:r>
            <a:r>
              <a:rPr b="0" lang="ru-RU" sz="2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999900"/>
                </a:solidFill>
                <a:latin typeface="Garamond"/>
              </a:rPr>
              <a:t>Просвещение</a:t>
            </a:r>
            <a:br>
              <a:rPr sz="2000"/>
            </a:br>
            <a:r>
              <a:rPr b="0" lang="ru-RU" sz="2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999900"/>
                </a:solidFill>
                <a:latin typeface="Garamond"/>
              </a:rPr>
              <a:t>Стр. 184, упражнение 456</a:t>
            </a:r>
            <a:br>
              <a:rPr sz="2000"/>
            </a:b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аглавьте текст. Как доказывается выделенный тезис? Как он связан с выводо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щё я вам расскажу пр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слово, маленькое, но до того умное – прямо невероятно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такое коротенькое слово «кто». Стучат в дверь, и ты спрашиваешь: «Кто там?» Если бы не было этого малыша «кто», тебе бы пришлось спрашивать: «Там Казик или Маня, тётя или лудильщик, кум Петр или нищий?» А тот бы всё отвечал: «Нет, нет, нет». Ты бы так три часа подряд мог спрашивать и не угадать. Стоял бы весь потный, злой, голодный и спрашивал, спрашивал… А так: «Кто там?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этом коротеньком «кто» - имена всех людей на свет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то – местоиме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Я.Корчаку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9900"/>
                </a:solidFill>
                <a:latin typeface="Garamond"/>
              </a:rPr>
              <a:t>Баранов М.Т., Ладыженская Т.А. и др. Русский язык. 7 кл.</a:t>
            </a:r>
            <a:r>
              <a:rPr b="0" lang="ru-RU" sz="18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999900"/>
                </a:solidFill>
                <a:latin typeface="Garamond"/>
              </a:rPr>
              <a:t>2005</a:t>
            </a:r>
            <a:r>
              <a:rPr b="0" lang="ru-RU" sz="18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999900"/>
                </a:solidFill>
                <a:latin typeface="Garamond"/>
              </a:rPr>
              <a:t>Просвещение</a:t>
            </a:r>
            <a:br>
              <a:rPr sz="1800"/>
            </a:br>
            <a:r>
              <a:rPr b="1" lang="ru-RU" sz="1800" spc="-1" strike="noStrike">
                <a:solidFill>
                  <a:srgbClr val="999900"/>
                </a:solidFill>
                <a:latin typeface="Garamond"/>
              </a:rPr>
              <a:t>Стр.28. упражнение 63</a:t>
            </a:r>
            <a:br>
              <a:rPr sz="1800"/>
            </a:b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олго стоял на берегу родной реки, радуясь и печалясь, невольно вспоминая давние, навсегда отжитые времена, думая о великих свершениях и переменах. Трогательно связана моя жизнь с этой маленькой речкой, тонущей в зелёных кудрявых берегах. Здесь прошло моё детство, перед глазами впервые раскрывался живой радостный мир. Здесь я услышал русскую ладную речь, слушал чудесные народные песни. И здесь же почувствовал, полюбил  материнское тепло родной земли, родившей меня и вскормивш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дут времена, думаю я теперь, и поколения людей спросят у нас о пережитых и переживаемых нами величественных и трагических днях. Надо помнить живших на русской земле дедов и отцов наших, создавших могучий язык, на котором мы пишем и говори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.Соколов-Микит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5075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00"/>
                </a:solidFill>
                <a:latin typeface="Garamond"/>
              </a:rPr>
              <a:t>Баранов М.Т., Ладыженская Т.А и др.. Русский язык. 7 кл.</a:t>
            </a:r>
            <a:r>
              <a:rPr b="0" lang="ru-RU" sz="16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u-RU" sz="1600" spc="-1" strike="noStrike">
                <a:solidFill>
                  <a:srgbClr val="999900"/>
                </a:solidFill>
                <a:latin typeface="Garamond"/>
              </a:rPr>
              <a:t>2005</a:t>
            </a:r>
            <a:r>
              <a:rPr b="0" lang="ru-RU" sz="16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u-RU" sz="16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Просвещение</a:t>
            </a:r>
            <a:br>
              <a:rPr sz="1600"/>
            </a:br>
            <a:r>
              <a:rPr b="1" lang="ru-RU" sz="16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 Стр. 189-190, упражнение 423.</a:t>
            </a:r>
            <a:br>
              <a:rPr sz="1600"/>
            </a:br>
            <a:endParaRPr b="0" lang="en-US" sz="1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42920" y="980640"/>
            <a:ext cx="8750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ещё можно было бы озаглавить этот текст? Докажите, что это текст-рассужде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его же вырастает огромная человеческая любовь ко всему, что умещается в одном слове – Роди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– это очень много. Это и тропинка с бродом через ручей. Это и ракета, нацеленная к Луне, и птицы, летящие на север над нашим домом. Это имена людей, названия новых машин, танцы, которым неистово хлопают во всех городах Земл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подобна огромному дереву, на котором не сосчитать листьев. И всё, что мы делаем доброго, прибавляет силу ему. Но всякое дерево имеет корни. Без корней его повалил бы даже самый несильный ветер. Корни питают дерево, связывают его с землё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и – это то, чем мы жили вчера, год назад, сто, тысячу лет назад. Это наша история, это наши деды и пращуры. Это их дела, молчаливо живущие рядом с нами, в степных каменных бабах, в резных наличниках, в деревянных игрушках и диковинных храмах, удивительных песнях и сказках. Это славные имена полководцев, поэтов и борцов за народное  дел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у надо знать свои корни. Тогда и воздух, которым он дышит, будет целебен и вкусен, и земля, на которой стоят его ноги, будет дороже, и всё, что будет выходить из рук его, буде овеяно мастерством его предшественников, красотой, наполненной в век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же будем помнить об этих корн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Песков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4072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999900"/>
                </a:solidFill>
                <a:latin typeface="Verdana"/>
                <a:ea typeface="Times New Roman"/>
              </a:rPr>
              <a:t>Бархударов С.Г., Крючков С.Е. и др. Русский язык. 8 класс 2005 Просвещение</a:t>
            </a:r>
            <a:br>
              <a:rPr sz="1400"/>
            </a:br>
            <a:r>
              <a:rPr b="1" lang="ru-RU" sz="1400" spc="-1" strike="noStrike">
                <a:solidFill>
                  <a:srgbClr val="999900"/>
                </a:solidFill>
                <a:latin typeface="Verdana"/>
                <a:ea typeface="Times New Roman"/>
              </a:rPr>
              <a:t>Стр. 92, упражнение 200</a:t>
            </a:r>
            <a:endParaRPr b="0" lang="en-US" sz="1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14200" y="691920"/>
            <a:ext cx="86788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хотите быть по-настоящему интеллигентным, образованным и культурным человеком, обращайте внимание на свой язык. Говорите правильно, точно и эконом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м приходится часто публично выступать на собраниях, заседаниях, просто в обществе своих знакомых, то прежде всего следите, чтобы ваше выступление не были слишком длинными. Следите за временем. Это необходимо не только из уважения к окружающим, это важно, чтобы вас поняли. Первые пять минут вас могут слушать внимательно, вторые пять минут вас ещё продолжают слушать, через пятнадцать минут все только делают вид, что слушают вас, а на двадцатой минуте перестают делать вид и начинают перешёптываться о своих дел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правило: чтобы выступление было интересным, все, что вы говорите, должно быть интересным и для вас. Если  выступающий с интересом для себя  рассказывает или читает и аудитория это почувствует, то и слушателям будет интерес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постарайтесь сделать так, чтобы в вашем выступлении не было просто цепи разных мыслей, а была одна главная мысль, которой подчинены все остальные. Тогда слушатели будут догадываться, в чем вы хотите их убедить, и будут с интересом слушать и ждать, как вы в конце сформулируете вашу основную мысль.                                                                        (Д.С.Лихачёв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Сжатое изложение как форма информационной обработки текст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600" cy="42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ельная обработка текста, воспринимаемого на слух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711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овая обработка текста в процессе написания сжатого изложен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9900"/>
                </a:solidFill>
                <a:latin typeface="Garamond"/>
              </a:rPr>
              <a:t>Бархударов С.Г., Крючков С.Е., Максимов Л.Ю.и др. Русский язык. 8 кл. 2005</a:t>
            </a:r>
            <a:r>
              <a:rPr b="0" lang="ru-RU" sz="18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999900"/>
                </a:solidFill>
                <a:latin typeface="Garamond"/>
              </a:rPr>
              <a:t>Просвещение</a:t>
            </a:r>
            <a:br>
              <a:rPr sz="1800"/>
            </a:b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3, упражнение 1 ( в пару к нему – стр.81, упражнение 178 «Русский язык»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71, упражнение 154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хударов С.Г., Крючков С.Е., Максимов Л.Ю.и др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сский язык.     9 кл. 200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щение</a:t>
            </a:r>
            <a:br>
              <a:rPr sz="3200"/>
            </a:b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785600"/>
            <a:ext cx="822960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112, упражнение 249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177, упражнение 393,39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Алгоритм обучения школьников</a:t>
            </a:r>
            <a:br>
              <a:rPr sz="2400"/>
            </a:br>
            <a:r>
              <a:rPr b="0" lang="en-US" sz="24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 адекватному восприятию текста на слух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тип реч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разновидности  композиции текста-рассужд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с помощью ключевых сл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-маркёров) количество микрот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держания текст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ём текст? (тем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ой вопрос является для автора главным? (проблем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чем создан текст? (идея, основная мысль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2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Языковая обработка текста в процессе написания сжатого излож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507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ое изложение – это такая форма обработ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 исходного текста, при которой возникает нов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, воспроизводящий основное содержани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ционно-логическую структуру, стиль и тип авторс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учи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ам сжатия текс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чи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ю нового текста на основе умения применя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 сжатия текст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ирать лексические и грамматические средств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щие связно и кратко передать полученную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9900"/>
                </a:solidFill>
                <a:uFillTx/>
                <a:latin typeface="Times New Roman"/>
                <a:ea typeface="Times New Roman"/>
              </a:rPr>
              <a:t>Информационная обработка текста</a:t>
            </a:r>
            <a:br>
              <a:rPr sz="2400"/>
            </a:br>
            <a:r>
              <a:rPr b="1" i="1" lang="en-US" sz="24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Составитель Л.С.Степанова, руководитель группы разработчиков  КИМ ГИА 9</a:t>
            </a:r>
            <a:br>
              <a:rPr sz="2400"/>
            </a:b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57120" y="1599840"/>
            <a:ext cx="8329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ём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есс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екст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сключ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торостепенной информ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ов, подробностей, детал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прощ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нтаксических структур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нимическая замена, сокращение часте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яни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общ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диничных явлений и факто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тывание информации на основе ее обобщения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а частного в общее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1. Исключение второстепенной информации</a:t>
            </a:r>
            <a:r>
              <a:rPr b="1" lang="en-US" sz="2800" spc="-1" strike="noStrike" u="sng">
                <a:solidFill>
                  <a:srgbClr val="9999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сключение отдельных слов, словосочетаний, фрагментов предложений, вводных и уточняющих конструк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ключение одного или нескольких предложен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ключение одного или нескольких синонимов в ряду однородных членов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даление из текста поясняющих конструкций, например, ряда однородных членов при обобщающем слове или ряда простых предложений в составе бессоюзного сложного, поясняющих, раскрывающих содержание первой ча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Упрощение синтаксических структур</a:t>
            </a:r>
            <a:r>
              <a:rPr b="0" lang="en-US" sz="40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мена придаточного определительного синонимичным определением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мена придаточного обстоятельственного деепричастным оборотом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кращение количества структурных частей сложного предложения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лияние двух предложений в од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Обобщение единичных явлений и фактов</a:t>
            </a:r>
            <a:r>
              <a:rPr b="0" lang="en-US" sz="32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содержания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мена ряда однородных членов обобщающим словом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ая консультация – 9.12 в 15.30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О, актовый за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9900"/>
                </a:solidFill>
                <a:latin typeface="Garamond"/>
              </a:rPr>
              <a:t>I</a:t>
            </a:r>
            <a:r>
              <a:rPr b="1" i="1" lang="ru-RU" sz="32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Содержательная обработка текста, воспринимаемого на слух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учим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му восприятию тек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декватному – соответствующему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му содержанию текста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чим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нимать содержание текста н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 структурированно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Структурированное восприятие содержания текста</a:t>
            </a:r>
            <a:r>
              <a:rPr b="0" lang="en-US" sz="40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85480" y="142884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чим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еделять функционально-содержатель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 текста – тип реч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рассуждение, то есть определять тезис (-ы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ументы, выво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Определять структурно-композицион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 текста: виды композиции текс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суж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композиции текста-рассужд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зис–– аргумент(-ы)  –– вывод. (Демоверсия 2009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ый тезис – аргумент(-ы) – (вывод), 2-ой тезис 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умент(-ы) – (вывод), 3-ий тезис – аргумент – …(Экзамен 2009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-70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13840" y="0"/>
            <a:ext cx="8929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ак давно учёные считали, что успех в жизни напрямую связан с нашим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ыми способностями. Чем больше человек знает и умеет, тем больш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того, что он многого добьётся в жизн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оказывается, что будущие профессиональные перспективы определяются н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объёмом и качеством всего, что нам удалось узнать в школе. Как утверждают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учёные, наполненная знаниями голова ещё не спасение от серьёзных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х неудач и провалов. Интеллектуальные способности и навыки, необходим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следующей работы, — это всего лишь основа, фундамент. На этом фундамент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ание профессионального успеха может быть построено только в том случае, есл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обладает определёнными личностными качеств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дним из таких важнейших качеств является способность понимать окружающих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вать их настроение, сопереживать им. Через сопереживание человек ощущает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ю причастность к тем, кто живёт рядом с ним, участвует в том, что происходит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. Следовательно, обладая способностью понимать, чувствовать и сопереживать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сможет поддерживать гармоничные отношения с миром, а значит, сможет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ться успеха в этом мир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развить эту способность? Психологи пришли к выводу, что помочь этому, 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ости, может восприятие искусства. Человек, который получает удовольствие от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писных или скульптурных образов, чувствует красоту стиха или мелодии, ощущает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 узора, — такой человек способен к необходимому для жизни эмоциональном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живанию. А в том, что эти переживания жизненно необходимы, учёные н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еваются. Только нужно уметь чувствовать. И через восприятие искусства м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гораживаем свои чувства, воспитываем их. Кино, театр, музыка — всё обогащает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, потому что благодаря восприятию любого вида искусства у нас развиваетс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называемый эмоциональный интеллект, то есть оптимальное сочетани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х и интеллектуальных способностей нашей лич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560" y="115920"/>
            <a:ext cx="889308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ные утверждают, что на нашей планете есть лишь одно мыслящее существо – человек. Но иногда птица или зверь ведут себя куда разумней и достойней, чем некоторые люди. Вспомним хотя бы бездомных собак или кошек в крупных городах. Выброшенные из привычной обстановки квартир, эти животные не только осваивают окрестные дворы и улицы, но и приобретают совершенно новые для них умения. Например, многие собаки со временем спокойно ездят в другие районы города на автобусах или даже на метро и возвращаются обратно. Зачем они колесят по городу? Может быть, они ездят туда, где когда-то был их дом, тщетно надеясь, что бывший хозяин одумается? А может, просто навещают свои родные места?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ы слишком многого ещё не знаем и не понимаем в поведении братьев наших меньших, много загадок остаётся в отношениях человека даже с домашними животными. Взять хотя бы то, что мы искренне уверены: человек всегда старший и главный, а собака или кошка всегда младшие и подчинённые ему. Но так ли это? Не приписываем ли мы себе больше, чем есть на самом дел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учёные выяснили: человек, безусловно, влияет на приручённое им существо, но и оно самим своим присутствием, своим существованием, своим поведением воспитывает хозяина. Статистические данные позволяют утверждать, что среди владельцев домашних животных меньше людей, подверженных вспышкам агрессивности, необъяснимой раздражительности, гнева. В общении с четвероногим питомцем человек становится более чутким, острее воспринимает красоту и скорее отзывается на боль други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от над чем всем нам стоит особенно задуматься: оказывается, присутствие рядом животных обогащает человека интеллектуально, делает его более способным к восприятию научных истин, более мудры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Структурированное восприятие содержания текста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28400" y="1499760"/>
            <a:ext cx="8535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чим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Членить текст на смысловые части – микротемы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инимум – их 3 (структура рассуждения)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аргументов может быть несколько – увеличивается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микротем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тем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держание нескольких самостоятельных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й, связанных одной мыслью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. Определять главную информацию каждой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кротемы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снове разделения информации н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ую и второстепенную и отсечения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степенной информаци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Приемы определения главной информац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14200" y="14284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информация – информация, без которо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ясен основной смысл текста, поэтому главная информац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 на основе восприятия его основн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ый прие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 темы, проблемы, идеи (авторская позиция): о чем текст? (тема); какой вопрос главный? (проблема); зачем создан текст? (идея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от греч. thema - то, что положено в основу)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зображения в тексте: круг жизненных явлений и событий, о которых пишет авто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версия 2009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о личных качествах человека, которые помогают ему добиться успеха в жиз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633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28400" y="428760"/>
            <a:ext cx="8535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бл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реч. problema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дание) – вопрос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ющий на каком-либо противоречии социально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ой, культурной или духовной жиз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создается автором с целью осмыслить эту пробл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разить свое отношение к ней, предложить свою точк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ния на ее решени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озникает противоречие при изложении темы, како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уется вопрос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версия 2009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ые способности, от которых, по мнению ученых, напрямую зависит успех в жизни, - всего лишь основа, а для успеха в жизни необходима способность понимать, чувствовать и сопережи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10:51:39Z</dcterms:created>
  <dc:creator>Admin</dc:creator>
  <dc:description/>
  <dc:language>en-US</dc:language>
  <cp:lastModifiedBy>Литература</cp:lastModifiedBy>
  <dcterms:modified xsi:type="dcterms:W3CDTF">2009-11-11T11:19:19Z</dcterms:modified>
  <cp:revision>62</cp:revision>
  <dc:subject/>
  <dc:title>Слайд 1</dc:title>
</cp:coreProperties>
</file>